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729-4216-461A-AD70-4C6A119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470-9467-44E5-8CAC-D32208C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1E5-54C0-4FC6-B39B-A7DB96DE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D7D-6F3A-4590-90FD-A8E51E59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124-C699-4535-BAE6-1EB9145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CE7-590F-400F-8BDD-DBC9A76C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FAD-A353-4531-9C49-61053A02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257-6CC1-424B-B677-7EFD97BC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629-0DC5-42BF-B003-B3F7B844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EA5-A971-4805-BBEA-7B2E435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F09-17FF-47A6-BD19-C0B0D42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F1E-AF4E-4B72-8EAA-FECBD55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27D-B5BC-45A1-B264-FAD6D7E6A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609480"/>
            <a:ext cx="78483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r the island of knowledge, the longer the shoreline of wo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lph W. Sock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6:24:31Z</dcterms:created>
  <dc:creator>Aberdeen Public Schools</dc:creator>
  <dc:description/>
  <dc:language>en-US</dc:language>
  <cp:lastModifiedBy>Aberdeen Public Schools</cp:lastModifiedBy>
  <dcterms:modified xsi:type="dcterms:W3CDTF">2010-05-06T16:24:56Z</dcterms:modified>
  <cp:revision>2</cp:revision>
  <dc:subject/>
  <dc:title>Slide 1</dc:title>
</cp:coreProperties>
</file>